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8EF9-E95A-47B6-8272-03F1D22A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C458-5338-403F-B92B-E36AFD12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819C-1865-401B-95C5-5822A52B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750-7C07-4C1F-9E4E-F291B731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CAF-AF24-45CA-9C44-312E3DF1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2A95-5F00-4A9C-B068-B6080085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8C7-E4F4-4CBD-91AE-3CF46374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48DE-5130-40BF-8720-062538F6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F17-9133-4F32-A92D-DE08A5B9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5BAA-0187-40CF-B402-6F8EE014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4E9-6380-4DFD-B93A-4355B14C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FA05-1ABA-4C1E-9575-769CCC78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A218-7C38-4BAB-8441-10C6339FE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Visual Images to Enhance Compreh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anie We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12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0020200">
            <a:off x="228600" y="380520"/>
            <a:ext cx="2895480" cy="2049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164200">
            <a:off x="6019920" y="0"/>
            <a:ext cx="3124080" cy="2577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19587000">
            <a:off x="6248520" y="4419360"/>
            <a:ext cx="2895480" cy="2097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1532400">
            <a:off x="228240" y="4394160"/>
            <a:ext cx="248112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 student can create a picture that correlates with the text, it increases their understanding of the mate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3809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first have to “see” what they are reading in their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3657600"/>
            <a:ext cx="1143000" cy="99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bbing, A.N, &amp; Rankin-Erickson, J.L. (2003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ggling readers can not match pictures with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 and schema can pose as obstacles in visualizing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analogy of a television to teach ima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3581280" cy="2762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038480" y="4038480"/>
            <a:ext cx="270036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Tigue, E.M. (2010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ry is neglected in th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tudents do not know how to “imag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y-telling as a tool to introduce ima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702240" cy="47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ughton, V.M. (2008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need to understand elements of a story to get the main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I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can organize thoughts into a story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72000" cy="1789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05520" y="3809880"/>
            <a:ext cx="297180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7010640" cy="527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0" y="4379760"/>
            <a:ext cx="6858000" cy="24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Understa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to know h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mental images in 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d before they can produce the image on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icture serves no purpose if it has no correlation with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effective imagery strategies to enhance compreh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students who are unable to connect mental images with text are more likely to be struggling readers, then shouldn’t imagery be strongly emphasized at an early 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eaching children how to imagine is difficult, this does not mean that imagery should be ignored in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48520" y="601992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ltimate goal in Read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5715000"/>
            <a:ext cx="911160" cy="911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919160" y="5867280"/>
            <a:ext cx="1281240" cy="824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276720" y="5715000"/>
            <a:ext cx="911160" cy="911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791320" y="563868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20:43:57Z</dcterms:created>
  <dc:creator>Computer Lab</dc:creator>
  <dc:description/>
  <dc:language>en-US</dc:language>
  <cp:lastModifiedBy>Computer Lab</cp:lastModifiedBy>
  <dcterms:modified xsi:type="dcterms:W3CDTF">2010-10-11T21:53:54Z</dcterms:modified>
  <cp:revision>4</cp:revision>
  <dc:subject/>
  <dc:title>Using Visual Images to Enhance Comprehension</dc:title>
</cp:coreProperties>
</file>